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7.jpeg" ContentType="image/jpeg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briWorld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1200" y="429732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E79C-B680-4452-821F-3934DED37103}" type="slidenum">
              <a:rPr b="1" lang="fr-FR" sz="1200" spc="-1" strike="noStrike">
                <a:solidFill>
                  <a:srgbClr val="996633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868680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Comic Sans MS"/>
              </a:rPr>
              <a:t>pierre-marie.charriere@edu.ge.ch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quences des diapos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la personne qui considère Cabri-Géomètre comme un outil supplémentaire de dessin, les boîtes noires permettent de prendre conscience de l’aspect dynamique et relationnel de la figure. Cette activité n ’a pas de sens avec papier-crayon ! Le cabri-déplacement est obligato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NIPULATION DIRECTE au service de la  MODÉLISATION, voici l'IDÉE CAB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 ’élève va à son rythme, il peut découvrir d ’autres programmes et d ’autres propriétés que ceux de son maître. Les options de construction et de validation contribuent à l ’autocorrection. Il peut tester sa construction, car la solution est donnée par la boîte noi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ait d ’avoir à sa disposition la réponse donne à l ’élève l ’habitude d 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’imaginer le problème résolu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: une démarche fréquente et importante en mathématiques  (démarche déjà prisée par le philosophe et mathématicien grec Platon 428-347 av J.C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quences des diapos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 'ÉLÈV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 à son rythme : le problème lui appartient davantage, il peut rejouer les constructions. Il est aisé de réaliser plusieurs fois de suite une même boîte noire sans lasser l ’exécutant. La dextérité augmente et les constructions se fixent dans la mémo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E MAÎTR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rivilégie tel ou tel aspect du programme, il organise la session de travail (individuel, groupe, classe, etc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activité peut prendre place au primaire ou dans u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lus « musclé »  de géomé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onstructions classiques, les théorèmes connus méconnus ou oubliés, les savoirs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OMÉTR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se glissent à l ’intérieur des boîtes no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 'ÉLÈV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 à son rythme : le problème lui appartient davantage, il peut rejouer les constructions. Il est aisé de réaliser plusieurs fois de suite une même boîte noire sans lasser l ’exécutant. La dextérité augmente et les constructions se fixent dans la mémo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E MAÎTR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rivilégie tel ou tel aspect du programme, il organise la session de travail (individuel, groupe, classe, etc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activité peut prendre place au primaire ou dans u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lus « musclé »  de géomé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onstructions classiques, les théorèmes connus méconnus ou oubliés, les savoirs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OMÉTR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se glissent à l ’intérieur des boîtes no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 'ÉLÈV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 à son rythme : le problème lui appartient davantage, il peut rejouer les constructions. Il est aisé de réaliser plusieurs fois de suite une même boîte noire sans lasser l ’exécutant. La dextérité augmente et les constructions se fixent dans la mémo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E MAÎTR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rivilégie tel ou tel aspect du programme, il organise la session de travail (individuel, groupe, classe, etc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activité peut prendre place au primaire ou dans u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plus « musclé »  de géomé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onstructions classiques, les théorèmes connus méconnus ou oubliés, les savoirs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ÉOMÉTR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se glissent à l ’intérieur des boîtes no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quatre étapes pour résoudre un problème, selon le mathématicie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L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ir la partie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« Dossier »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ù se trouve un schéma expliquant le travail de l ’élève (celui d ’un scientifiqu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520" y="393804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896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636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956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52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636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956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586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9896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520" y="393804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9896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636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9560" y="182880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52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636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9560" y="3938040"/>
            <a:ext cx="218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456840"/>
            <a:ext cx="586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8960" y="393804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8960" y="1828800"/>
            <a:ext cx="33094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520" y="3938040"/>
            <a:ext cx="67820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hyperlink" Target="file:///dossier.pdf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0720" indent="-22392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941120" indent="-22392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1941120" indent="-22392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1941120" indent="-22392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lastslide"/>
          </p:cNvPr>
          <p:cNvSpPr/>
          <p:nvPr/>
        </p:nvSpPr>
        <p:spPr>
          <a:xfrm rot="31800">
            <a:off x="996480" y="380520"/>
            <a:ext cx="1289160" cy="720720"/>
          </a:xfrm>
          <a:custGeom>
            <a:avLst/>
            <a:gdLst/>
            <a:ahLst/>
            <a:rect l="l" t="t" r="r" b="b"/>
            <a:pathLst>
              <a:path w="4920" h="3120">
                <a:moveTo>
                  <a:pt x="120" y="3120"/>
                </a:moveTo>
                <a:lnTo>
                  <a:pt x="0" y="2520"/>
                </a:lnTo>
                <a:lnTo>
                  <a:pt x="120" y="2040"/>
                </a:lnTo>
                <a:lnTo>
                  <a:pt x="360" y="1560"/>
                </a:lnTo>
                <a:lnTo>
                  <a:pt x="720" y="1080"/>
                </a:lnTo>
                <a:lnTo>
                  <a:pt x="1080" y="840"/>
                </a:lnTo>
                <a:lnTo>
                  <a:pt x="1200" y="720"/>
                </a:lnTo>
                <a:lnTo>
                  <a:pt x="1680" y="600"/>
                </a:lnTo>
                <a:lnTo>
                  <a:pt x="2160" y="120"/>
                </a:lnTo>
                <a:lnTo>
                  <a:pt x="2520" y="0"/>
                </a:lnTo>
                <a:lnTo>
                  <a:pt x="2880" y="0"/>
                </a:lnTo>
                <a:lnTo>
                  <a:pt x="3720" y="240"/>
                </a:lnTo>
                <a:lnTo>
                  <a:pt x="4320" y="480"/>
                </a:lnTo>
                <a:lnTo>
                  <a:pt x="4920" y="840"/>
                </a:lnTo>
                <a:lnTo>
                  <a:pt x="4920" y="960"/>
                </a:lnTo>
                <a:lnTo>
                  <a:pt x="4320" y="1080"/>
                </a:lnTo>
                <a:lnTo>
                  <a:pt x="3840" y="960"/>
                </a:lnTo>
                <a:lnTo>
                  <a:pt x="3120" y="960"/>
                </a:lnTo>
                <a:lnTo>
                  <a:pt x="2505" y="1065"/>
                </a:lnTo>
                <a:lnTo>
                  <a:pt x="1890" y="945"/>
                </a:lnTo>
                <a:lnTo>
                  <a:pt x="2175" y="1005"/>
                </a:lnTo>
                <a:lnTo>
                  <a:pt x="1920" y="1200"/>
                </a:lnTo>
                <a:lnTo>
                  <a:pt x="1680" y="1440"/>
                </a:lnTo>
                <a:lnTo>
                  <a:pt x="1590" y="1470"/>
                </a:lnTo>
                <a:lnTo>
                  <a:pt x="1485" y="1620"/>
                </a:lnTo>
                <a:lnTo>
                  <a:pt x="1305" y="1620"/>
                </a:lnTo>
                <a:lnTo>
                  <a:pt x="1290" y="1445"/>
                </a:lnTo>
                <a:lnTo>
                  <a:pt x="1155" y="1422"/>
                </a:lnTo>
                <a:lnTo>
                  <a:pt x="720" y="1680"/>
                </a:lnTo>
                <a:lnTo>
                  <a:pt x="120" y="312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31800">
            <a:off x="1339920" y="748800"/>
            <a:ext cx="42840" cy="44640"/>
          </a:xfrm>
          <a:custGeom>
            <a:avLst/>
            <a:gdLst/>
            <a:ahLst/>
            <a:rect l="l" t="t" r="r" b="b"/>
            <a:pathLst>
              <a:path w="165" h="195">
                <a:moveTo>
                  <a:pt x="0" y="15"/>
                </a:moveTo>
                <a:lnTo>
                  <a:pt x="75" y="195"/>
                </a:lnTo>
                <a:lnTo>
                  <a:pt x="165" y="0"/>
                </a:lnTo>
              </a:path>
            </a:pathLst>
          </a:cu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31800">
            <a:off x="1380600" y="725400"/>
            <a:ext cx="16200" cy="144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95280" y="7621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280B-D248-42F1-A347-DEBEBADB4835}" type="slidenum">
              <a:rPr b="0" lang="fr-FR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9047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">
            <a:hlinkClick r:id="rId4"/>
          </p:cNvPr>
          <p:cNvSpPr/>
          <p:nvPr/>
        </p:nvSpPr>
        <p:spPr>
          <a:xfrm>
            <a:off x="1295280" y="76212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2A45-EE45-4130-8C39-5DD6B3950B35}" type="slidenum">
              <a:rPr b="0" lang="fr-FR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lastslide"/>
          </p:cNvPr>
          <p:cNvSpPr/>
          <p:nvPr/>
        </p:nvSpPr>
        <p:spPr>
          <a:xfrm rot="31800">
            <a:off x="996480" y="380520"/>
            <a:ext cx="1289160" cy="720720"/>
          </a:xfrm>
          <a:custGeom>
            <a:avLst/>
            <a:gdLst/>
            <a:ahLst/>
            <a:rect l="l" t="t" r="r" b="b"/>
            <a:pathLst>
              <a:path w="4920" h="3120">
                <a:moveTo>
                  <a:pt x="120" y="3120"/>
                </a:moveTo>
                <a:lnTo>
                  <a:pt x="0" y="2520"/>
                </a:lnTo>
                <a:lnTo>
                  <a:pt x="120" y="2040"/>
                </a:lnTo>
                <a:lnTo>
                  <a:pt x="360" y="1560"/>
                </a:lnTo>
                <a:lnTo>
                  <a:pt x="720" y="1080"/>
                </a:lnTo>
                <a:lnTo>
                  <a:pt x="1080" y="840"/>
                </a:lnTo>
                <a:lnTo>
                  <a:pt x="1200" y="720"/>
                </a:lnTo>
                <a:lnTo>
                  <a:pt x="1680" y="600"/>
                </a:lnTo>
                <a:lnTo>
                  <a:pt x="2160" y="120"/>
                </a:lnTo>
                <a:lnTo>
                  <a:pt x="2520" y="0"/>
                </a:lnTo>
                <a:lnTo>
                  <a:pt x="2880" y="0"/>
                </a:lnTo>
                <a:lnTo>
                  <a:pt x="3720" y="240"/>
                </a:lnTo>
                <a:lnTo>
                  <a:pt x="4320" y="480"/>
                </a:lnTo>
                <a:lnTo>
                  <a:pt x="4920" y="840"/>
                </a:lnTo>
                <a:lnTo>
                  <a:pt x="4920" y="960"/>
                </a:lnTo>
                <a:lnTo>
                  <a:pt x="4320" y="1080"/>
                </a:lnTo>
                <a:lnTo>
                  <a:pt x="3840" y="960"/>
                </a:lnTo>
                <a:lnTo>
                  <a:pt x="3120" y="960"/>
                </a:lnTo>
                <a:lnTo>
                  <a:pt x="2505" y="1065"/>
                </a:lnTo>
                <a:lnTo>
                  <a:pt x="1890" y="945"/>
                </a:lnTo>
                <a:lnTo>
                  <a:pt x="2175" y="1005"/>
                </a:lnTo>
                <a:lnTo>
                  <a:pt x="1920" y="1200"/>
                </a:lnTo>
                <a:lnTo>
                  <a:pt x="1680" y="1440"/>
                </a:lnTo>
                <a:lnTo>
                  <a:pt x="1590" y="1470"/>
                </a:lnTo>
                <a:lnTo>
                  <a:pt x="1485" y="1620"/>
                </a:lnTo>
                <a:lnTo>
                  <a:pt x="1305" y="1620"/>
                </a:lnTo>
                <a:lnTo>
                  <a:pt x="1290" y="1445"/>
                </a:lnTo>
                <a:lnTo>
                  <a:pt x="1155" y="1422"/>
                </a:lnTo>
                <a:lnTo>
                  <a:pt x="720" y="1680"/>
                </a:lnTo>
                <a:lnTo>
                  <a:pt x="120" y="312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31800">
            <a:off x="1339920" y="748800"/>
            <a:ext cx="42840" cy="44640"/>
          </a:xfrm>
          <a:custGeom>
            <a:avLst/>
            <a:gdLst/>
            <a:ahLst/>
            <a:rect l="l" t="t" r="r" b="b"/>
            <a:pathLst>
              <a:path w="165" h="195">
                <a:moveTo>
                  <a:pt x="0" y="15"/>
                </a:moveTo>
                <a:lnTo>
                  <a:pt x="75" y="195"/>
                </a:lnTo>
                <a:lnTo>
                  <a:pt x="165" y="0"/>
                </a:lnTo>
              </a:path>
            </a:pathLst>
          </a:cu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31800">
            <a:off x="1380600" y="725400"/>
            <a:ext cx="16200" cy="14400"/>
          </a:xfrm>
          <a:prstGeom prst="ellipse">
            <a:avLst/>
          </a:prstGeom>
          <a:solidFill>
            <a:srgbClr val="99ccff">
              <a:alpha val="50000"/>
            </a:srgbClr>
          </a:solidFill>
          <a:ln w="0">
            <a:solidFill>
              <a:srgbClr val="99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abri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6.pn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hyperlink" Target="http://www.cabri.com/fr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6.png"/><Relationship Id="rId12" Type="http://schemas.openxmlformats.org/officeDocument/2006/relationships/slide" Target="slide13.xml"/><Relationship Id="rId13" Type="http://schemas.openxmlformats.org/officeDocument/2006/relationships/image" Target="../media/image16.jpeg"/><Relationship Id="rId14" Type="http://schemas.openxmlformats.org/officeDocument/2006/relationships/slide" Target="slide14.xml"/><Relationship Id="rId15" Type="http://schemas.openxmlformats.org/officeDocument/2006/relationships/image" Target="../media/image17.jpeg"/><Relationship Id="rId16" Type="http://schemas.openxmlformats.org/officeDocument/2006/relationships/slide" Target="slide15.xml"/><Relationship Id="rId17" Type="http://schemas.openxmlformats.org/officeDocument/2006/relationships/image" Target="../media/image18.jpeg"/><Relationship Id="rId18" Type="http://schemas.openxmlformats.org/officeDocument/2006/relationships/slide" Target="slide16.xml"/><Relationship Id="rId19" Type="http://schemas.openxmlformats.org/officeDocument/2006/relationships/image" Target="../media/image19.jpeg"/><Relationship Id="rId20" Type="http://schemas.openxmlformats.org/officeDocument/2006/relationships/slide" Target="slide17.xml"/><Relationship Id="rId21" Type="http://schemas.openxmlformats.org/officeDocument/2006/relationships/image" Target="../media/image20.jpeg"/><Relationship Id="rId22" Type="http://schemas.openxmlformats.org/officeDocument/2006/relationships/slide" Target="slide18.xml"/><Relationship Id="rId23" Type="http://schemas.openxmlformats.org/officeDocument/2006/relationships/image" Target="../media/image21.jpeg"/><Relationship Id="rId24" Type="http://schemas.openxmlformats.org/officeDocument/2006/relationships/slide" Target="slide20.xml"/><Relationship Id="rId25" Type="http://schemas.openxmlformats.org/officeDocument/2006/relationships/image" Target="../media/image22.jpeg"/><Relationship Id="rId26" Type="http://schemas.openxmlformats.org/officeDocument/2006/relationships/slide" Target="slide21.xml"/><Relationship Id="rId27" Type="http://schemas.openxmlformats.org/officeDocument/2006/relationships/hyperlink" Target="http://www.cabri.com/fr/" TargetMode="External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hyperlink" Target="http://www.cabri.com/fr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hyperlink" Target="http://www.ac-grenoble.fr/phychim/confjjma/sommaire.htm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" Target="slide12.xml"/><Relationship Id="rId4" Type="http://schemas.openxmlformats.org/officeDocument/2006/relationships/hyperlink" Target="http://www-cabri.imag.fr/abracadabri/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cabri.com/fr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19.jpe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20.jpe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21.jpeg"/><Relationship Id="rId7" Type="http://schemas.openxmlformats.org/officeDocument/2006/relationships/slide" Target="slide19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tmaurice.ch/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cabri.com/fr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image" Target="../media/image2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hyperlink" Target="file:///apologie.pdf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file:///Dossier/FiguresCabriPF.doc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hyperlink" Target="http://www.cabri.com/fr/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12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" Target="slide7.xml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hyperlink" Target="http://www.cabri.com/fr/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hyperlink" Target="http://www.cabri.com/fr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image" Target="../media/image6.png"/><Relationship Id="rId8" Type="http://schemas.openxmlformats.org/officeDocument/2006/relationships/hyperlink" Target="http://www.cabri.com/fr/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hyperlink" Target="file:///travail.pdf" TargetMode="External"/><Relationship Id="rId6" Type="http://schemas.openxmlformats.org/officeDocument/2006/relationships/hyperlink" Target="file:///travail.pdf" TargetMode="External"/><Relationship Id="rId7" Type="http://schemas.openxmlformats.org/officeDocument/2006/relationships/hyperlink" Target="file:///travail.pdf" TargetMode="External"/><Relationship Id="rId8" Type="http://schemas.openxmlformats.org/officeDocument/2006/relationships/hyperlink" Target="file:///travail.pdf" TargetMode="External"/><Relationship Id="rId9" Type="http://schemas.openxmlformats.org/officeDocument/2006/relationships/image" Target="../media/image6.png"/><Relationship Id="rId10" Type="http://schemas.openxmlformats.org/officeDocument/2006/relationships/hyperlink" Target="http://www.cabri.com/fr/" TargetMode="External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rcRect l="0" t="0" r="0" b="27710"/>
          <a:stretch/>
        </p:blipFill>
        <p:spPr>
          <a:xfrm>
            <a:off x="5334120" y="5943600"/>
            <a:ext cx="121896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Autonomi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Manipulation direc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Auto-Valid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Imaginer le problème résol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3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« Avec l’apparition de Cabri, j’ai rencontré de nouveaux géomètres. </a:t>
            </a:r>
            <a:r>
              <a:rPr b="1" lang="fr-FR" sz="2400" spc="-1" strike="noStrike">
                <a:solidFill>
                  <a:srgbClr val="3333ff"/>
                </a:solidFill>
                <a:latin typeface="Times New Roman"/>
              </a:rPr>
              <a:t>Enseignants, élèves osent faire des conjectures, des essais. </a:t>
            </a: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Ils (re)découvrent la géométrie et le plaisir de chercher. 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ff"/>
                </a:solidFill>
                <a:latin typeface="Times New Roman"/>
              </a:rPr>
              <a:t>« La </a:t>
            </a:r>
            <a:r>
              <a:rPr b="1" lang="fr-FR" sz="3200" spc="-1" strike="noStrike">
                <a:solidFill>
                  <a:srgbClr val="3333ff"/>
                </a:solidFill>
                <a:latin typeface="Times New Roman"/>
              </a:rPr>
              <a:t>constance</a:t>
            </a:r>
            <a:r>
              <a:rPr b="0" lang="fr-FR" sz="3200" spc="-1" strike="noStrike">
                <a:solidFill>
                  <a:srgbClr val="3333ff"/>
                </a:solidFill>
                <a:latin typeface="Times New Roman"/>
              </a:rPr>
              <a:t> des réponses fournies par l ’ordinateur,  leur caractère </a:t>
            </a:r>
            <a:r>
              <a:rPr b="1" lang="fr-FR" sz="3200" spc="-1" strike="noStrike">
                <a:solidFill>
                  <a:srgbClr val="3333ff"/>
                </a:solidFill>
                <a:latin typeface="Times New Roman"/>
              </a:rPr>
              <a:t>immédiat</a:t>
            </a:r>
            <a:r>
              <a:rPr b="0" lang="fr-FR" sz="3200" spc="-1" strike="noStrike">
                <a:solidFill>
                  <a:srgbClr val="3333ff"/>
                </a:solidFill>
                <a:latin typeface="Times New Roman"/>
              </a:rPr>
              <a:t> et  l</a:t>
            </a:r>
            <a:r>
              <a:rPr b="1" lang="fr-FR" sz="3200" spc="-1" strike="noStrike">
                <a:solidFill>
                  <a:srgbClr val="3333ff"/>
                </a:solidFill>
                <a:latin typeface="Times New Roman"/>
              </a:rPr>
              <a:t>’absence de jugement de valeurs </a:t>
            </a:r>
            <a:r>
              <a:rPr b="0" lang="fr-FR" sz="3200" spc="-1" strike="noStrike">
                <a:solidFill>
                  <a:srgbClr val="3333ff"/>
                </a:solidFill>
                <a:latin typeface="Times New Roman"/>
              </a:rPr>
              <a:t>en sont trois raisons importantes! »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5" name="" descr="">
            <a:hlinkClick r:id="rId6"/>
          </p:cNvPr>
          <p:cNvPicPr/>
          <p:nvPr/>
        </p:nvPicPr>
        <p:blipFill>
          <a:blip r:embed="rId7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4038480"/>
            <a:ext cx="1828800" cy="676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En géométr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5268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Exemp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752480"/>
            <a:ext cx="182880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En physiqu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905120"/>
            <a:ext cx="1828800" cy="7617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En chim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0280" y="2438280"/>
            <a:ext cx="1828800" cy="609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Puzzles</a:t>
            </a: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886200"/>
            <a:ext cx="1828800" cy="663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En algè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752480"/>
            <a:ext cx="1828800" cy="7621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En analy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343400"/>
            <a:ext cx="1828800" cy="6890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442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402000"/>
                </a:solidFill>
                <a:latin typeface="Times New Roman"/>
              </a:rPr>
              <a:t>div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 flipH="1">
            <a:off x="1219320" y="2743200"/>
            <a:ext cx="1676160" cy="1108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00400" y="2514600"/>
            <a:ext cx="1828800" cy="1231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410080" y="2590920"/>
            <a:ext cx="1524240" cy="1019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 flipH="1">
            <a:off x="1219320" y="478152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 flipH="1">
            <a:off x="3885840" y="4572000"/>
            <a:ext cx="1676520" cy="1549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 flipH="1">
            <a:off x="7086240" y="3106800"/>
            <a:ext cx="1523880" cy="1158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095880" y="5105520"/>
            <a:ext cx="1676520" cy="100332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>
            <a:hlinkClick r:id="rId26" action="ppaction://hlinksldjump"/>
          </p:cNvPr>
          <p:cNvSpPr/>
          <p:nvPr/>
        </p:nvSpPr>
        <p:spPr>
          <a:xfrm>
            <a:off x="3048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laidoyer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60" name="" descr="">
            <a:hlinkClick r:id="rId27"/>
          </p:cNvPr>
          <p:cNvPicPr/>
          <p:nvPr/>
        </p:nvPicPr>
        <p:blipFill>
          <a:blip r:embed="rId2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Structure du diama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6124680" cy="404820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67057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0883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9038" y="3794"/>
                </a:lnTo>
                <a:lnTo>
                  <a:pt x="9038" y="17806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70866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746748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78487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7881" y="10800"/>
                </a:moveTo>
                <a:lnTo>
                  <a:pt x="7376" y="17806"/>
                </a:lnTo>
                <a:lnTo>
                  <a:pt x="7376" y="3794"/>
                </a:lnTo>
                <a:close/>
              </a:path>
              <a:path fill="darken" w="28764" h="21600">
                <a:moveTo>
                  <a:pt x="19726" y="3794"/>
                </a:moveTo>
                <a:lnTo>
                  <a:pt x="19726" y="17806"/>
                </a:lnTo>
                <a:lnTo>
                  <a:pt x="21388" y="17806"/>
                </a:lnTo>
                <a:lnTo>
                  <a:pt x="21388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69" name="" descr="">
            <a:hlinkClick r:id="rId3"/>
          </p:cNvPr>
          <p:cNvPicPr/>
          <p:nvPr/>
        </p:nvPicPr>
        <p:blipFill>
          <a:blip r:embed="rId4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Tension électriqu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572160" cy="4419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67057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0883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9038" y="3794"/>
                </a:lnTo>
                <a:lnTo>
                  <a:pt x="9038" y="17806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70866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46748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lastslide"/>
          </p:cNvPr>
          <p:cNvSpPr/>
          <p:nvPr/>
        </p:nvSpPr>
        <p:spPr>
          <a:xfrm>
            <a:off x="78487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7881" y="10800"/>
                </a:moveTo>
                <a:lnTo>
                  <a:pt x="7376" y="17806"/>
                </a:lnTo>
                <a:lnTo>
                  <a:pt x="7376" y="3794"/>
                </a:lnTo>
                <a:close/>
              </a:path>
              <a:path fill="darken" w="28764" h="21600">
                <a:moveTo>
                  <a:pt x="19726" y="3794"/>
                </a:moveTo>
                <a:lnTo>
                  <a:pt x="19726" y="17806"/>
                </a:lnTo>
                <a:lnTo>
                  <a:pt x="21388" y="17806"/>
                </a:lnTo>
                <a:lnTo>
                  <a:pt x="21388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5715000"/>
            <a:ext cx="1218960" cy="70488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81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Dérivée-sinu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5400720" cy="36050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572436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5715000"/>
            <a:ext cx="1218960" cy="70488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92" name="" descr="">
            <a:hlinkClick r:id="rId6"/>
          </p:cNvPr>
          <p:cNvPicPr/>
          <p:nvPr/>
        </p:nvPicPr>
        <p:blipFill>
          <a:blip r:embed="rId7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Napolé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2057400" y="1828800"/>
            <a:ext cx="5638680" cy="390528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04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Fonction aff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2514600" y="1763640"/>
            <a:ext cx="4410000" cy="4073760"/>
          </a:xfrm>
          <a:prstGeom prst="rect">
            <a:avLst/>
          </a:prstGeom>
          <a:ln w="0">
            <a:noFill/>
          </a:ln>
        </p:spPr>
      </p:pic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16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Puzzle-Pythago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2133720" y="1676520"/>
            <a:ext cx="5657760" cy="430524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7" action="ppaction://hlinksldjump"/>
          </p:cNvPr>
          <p:cNvSpPr/>
          <p:nvPr/>
        </p:nvSpPr>
        <p:spPr>
          <a:xfrm>
            <a:off x="363528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Théorème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Démo-pythago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6"/>
          <a:stretch/>
        </p:blipFill>
        <p:spPr>
          <a:xfrm>
            <a:off x="2286000" y="2057400"/>
            <a:ext cx="5486400" cy="340344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7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1752480"/>
            <a:ext cx="8001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bfae2">
                    <a:alpha val="50000"/>
                  </a:srgbClr>
                </a:solidFill>
                <a:latin typeface="Arial Black"/>
              </a:rPr>
              <a:t>Cabri-géomètre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bfae2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04" name="">
            <a:hlinkClick r:id="rId2"/>
          </p:cNvPr>
          <p:cNvSpPr/>
          <p:nvPr/>
        </p:nvSpPr>
        <p:spPr>
          <a:xfrm>
            <a:off x="380880" y="6172200"/>
            <a:ext cx="3810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cd3333"/>
                </a:solidFill>
                <a:latin typeface="Times New Roman"/>
              </a:rPr>
              <a:t>Leysin – Septembre 2012                                                    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838080"/>
            <a:ext cx="8077320" cy="990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cd33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urs CRM Leysin</a:t>
            </a:r>
            <a:endParaRPr b="0" lang="en-US" sz="2400" spc="1" strike="noStrike">
              <a:ln w="25560">
                <a:solidFill>
                  <a:srgbClr val="cd33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502920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cd33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udi 13 septembre 2012</a:t>
            </a:r>
            <a:endParaRPr b="0" lang="en-US" sz="2400" spc="1" strike="noStrike">
              <a:ln w="25560">
                <a:solidFill>
                  <a:srgbClr val="cd33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909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26563" t="30843" r="26471" b="30437"/>
          <a:stretch/>
        </p:blipFill>
        <p:spPr>
          <a:xfrm>
            <a:off x="2340000" y="1830240"/>
            <a:ext cx="4933800" cy="3254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4"/>
          </p:cNvPr>
          <p:cNvPicPr/>
          <p:nvPr/>
        </p:nvPicPr>
        <p:blipFill>
          <a:blip r:embed="rId5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Que voyez-vous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>
            <a:hlinkClick r:id="rId5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1600200" y="1905120"/>
            <a:ext cx="6095880" cy="365436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7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Plaidoy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ff"/>
                </a:solidFill>
                <a:latin typeface="Times New Roman"/>
              </a:rPr>
              <a:t>Les enfants et le </a:t>
            </a:r>
            <a:r>
              <a:rPr b="1" lang="fr-FR" sz="3200" spc="-1" strike="noStrike">
                <a:solidFill>
                  <a:srgbClr val="3333ff"/>
                </a:solidFill>
                <a:latin typeface="Times New Roman"/>
              </a:rPr>
              <a:t>mouve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990720" y="1905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>
            <a:hlinkClick r:id="rId2"/>
          </p:cNvPr>
          <p:cNvSpPr/>
          <p:nvPr/>
        </p:nvSpPr>
        <p:spPr>
          <a:xfrm>
            <a:off x="1447920" y="251460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925640" y="1981080"/>
            <a:ext cx="2286000" cy="3457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657600" y="3048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72120" y="4086000"/>
            <a:ext cx="418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Dossier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64008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0883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9038" y="3794"/>
                </a:lnTo>
                <a:lnTo>
                  <a:pt x="9038" y="17806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678168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71629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75438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7881" y="10800"/>
                </a:moveTo>
                <a:lnTo>
                  <a:pt x="7376" y="17806"/>
                </a:lnTo>
                <a:lnTo>
                  <a:pt x="7376" y="3794"/>
                </a:lnTo>
                <a:close/>
              </a:path>
              <a:path fill="darken" w="28764" h="21600">
                <a:moveTo>
                  <a:pt x="19726" y="3794"/>
                </a:moveTo>
                <a:lnTo>
                  <a:pt x="19726" y="17806"/>
                </a:lnTo>
                <a:lnTo>
                  <a:pt x="21388" y="17806"/>
                </a:lnTo>
                <a:lnTo>
                  <a:pt x="21388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33920" y="21337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25909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1600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350532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3962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4197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769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3733920" y="53341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6480" y="2502000"/>
            <a:ext cx="4187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996633"/>
                </a:solidFill>
                <a:uFillTx/>
                <a:latin typeface="Times New Roman"/>
              </a:rPr>
              <a:t>Débuter avec Cabr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flipH="1">
            <a:off x="2523600" y="2514600"/>
            <a:ext cx="1209960" cy="1828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64008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0883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9038" y="3794"/>
                </a:lnTo>
                <a:lnTo>
                  <a:pt x="9038" y="17806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678168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71629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38480" y="1676520"/>
            <a:ext cx="4591080" cy="4397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 flipH="1">
            <a:off x="1447920" y="373392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2828880" y="4495680"/>
            <a:ext cx="1209600" cy="1828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6633"/>
                </a:solidFill>
                <a:latin typeface="Times New Roman"/>
              </a:rPr>
              <a:t>Et maintenant …au boulot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lastslide"/>
          </p:cNvPr>
          <p:cNvSpPr/>
          <p:nvPr/>
        </p:nvSpPr>
        <p:spPr>
          <a:xfrm>
            <a:off x="75438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7881" y="10800"/>
                </a:moveTo>
                <a:lnTo>
                  <a:pt x="7376" y="17806"/>
                </a:lnTo>
                <a:lnTo>
                  <a:pt x="7376" y="3794"/>
                </a:lnTo>
                <a:close/>
              </a:path>
              <a:path fill="darken" w="28764" h="21600">
                <a:moveTo>
                  <a:pt x="19726" y="3794"/>
                </a:moveTo>
                <a:lnTo>
                  <a:pt x="19726" y="17806"/>
                </a:lnTo>
                <a:lnTo>
                  <a:pt x="21388" y="17806"/>
                </a:lnTo>
                <a:lnTo>
                  <a:pt x="21388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640080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0883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9038" y="3794"/>
                </a:lnTo>
                <a:lnTo>
                  <a:pt x="9038" y="17806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678168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7162920" y="62485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098720" y="1865160"/>
            <a:ext cx="7664400" cy="40989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Cabri-géomèt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0200" y="1905120"/>
            <a:ext cx="6400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Dynamisme</a:t>
            </a: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 de la figu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Choix </a:t>
            </a: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des menus de b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Outils</a:t>
            </a: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 pour le pédagogu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Le potentiel de Cabri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1295280" y="3429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153280" y="5105520"/>
            <a:ext cx="525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1905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>
            <a:hlinkClick r:id="rId7" action="ppaction://hlinksldjump"/>
          </p:cNvPr>
          <p:cNvSpPr/>
          <p:nvPr/>
        </p:nvSpPr>
        <p:spPr>
          <a:xfrm>
            <a:off x="1371600" y="25909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8"/>
          </p:cNvPr>
          <p:cNvPicPr/>
          <p:nvPr/>
        </p:nvPicPr>
        <p:blipFill>
          <a:blip r:embed="rId9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9144000" y="770904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7493"/>
                </a:moveTo>
                <a:lnTo>
                  <a:pt x="10883" y="7493"/>
                </a:lnTo>
                <a:lnTo>
                  <a:pt x="10883" y="12828"/>
                </a:lnTo>
                <a:cubicBezTo>
                  <a:pt x="10883" y="13751"/>
                  <a:pt x="11684" y="14482"/>
                  <a:pt x="12720" y="14482"/>
                </a:cubicBezTo>
                <a:lnTo>
                  <a:pt x="14382" y="14482"/>
                </a:lnTo>
                <a:cubicBezTo>
                  <a:pt x="15418" y="14482"/>
                  <a:pt x="16218" y="13751"/>
                  <a:pt x="16218" y="12828"/>
                </a:cubicBezTo>
                <a:lnTo>
                  <a:pt x="16218" y="7493"/>
                </a:lnTo>
                <a:lnTo>
                  <a:pt x="14382" y="7493"/>
                </a:lnTo>
                <a:lnTo>
                  <a:pt x="17890" y="3985"/>
                </a:lnTo>
                <a:lnTo>
                  <a:pt x="21563" y="7493"/>
                </a:lnTo>
                <a:lnTo>
                  <a:pt x="19726" y="7493"/>
                </a:lnTo>
                <a:lnTo>
                  <a:pt x="19726" y="12828"/>
                </a:lnTo>
                <a:cubicBezTo>
                  <a:pt x="19726" y="15596"/>
                  <a:pt x="17150" y="18155"/>
                  <a:pt x="14382" y="18155"/>
                </a:cubicBezTo>
                <a:lnTo>
                  <a:pt x="12720" y="18155"/>
                </a:lnTo>
                <a:cubicBezTo>
                  <a:pt x="9952" y="18155"/>
                  <a:pt x="7376" y="15596"/>
                  <a:pt x="7376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2438280" y="5334120"/>
            <a:ext cx="525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3591000" cy="3962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525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Les outils de Cabri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6633"/>
                </a:solidFill>
                <a:latin typeface="Times New Roman"/>
              </a:rPr>
              <a:t>Outils</a:t>
            </a: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 pour </a:t>
            </a:r>
            <a:r>
              <a:rPr b="0" lang="fr-FR" sz="4000" spc="-1" strike="noStrike">
                <a:solidFill>
                  <a:srgbClr val="996633"/>
                </a:solidFill>
                <a:latin typeface="Times New Roman"/>
              </a:rPr>
              <a:t>le pédagogu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990720" y="624060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1219320" y="25909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153280" y="5105520"/>
            <a:ext cx="525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1905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362320" y="1676520"/>
            <a:ext cx="4419360" cy="42354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Facilement modul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1905120"/>
            <a:ext cx="64008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par </a:t>
            </a: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l’élè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par le </a:t>
            </a: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maît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pour le </a:t>
            </a: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program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Times New Roman"/>
              </a:rPr>
              <a:t>pour la </a:t>
            </a:r>
            <a:r>
              <a:rPr b="1" lang="fr-FR" sz="2400" spc="-1" strike="noStrike">
                <a:solidFill>
                  <a:srgbClr val="402000"/>
                </a:solidFill>
                <a:latin typeface="Times New Roman"/>
              </a:rPr>
              <a:t>géométr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8305920" y="5867280"/>
            <a:ext cx="5252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3" name="" descr="">
            <a:hlinkClick r:id="rId7"/>
          </p:cNvPr>
          <p:cNvPicPr/>
          <p:nvPr/>
        </p:nvPicPr>
        <p:blipFill>
          <a:blip r:embed="rId8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19047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Pour Quoi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23520" y="3429000"/>
            <a:ext cx="678204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08366"/>
                </a:solidFill>
                <a:latin typeface="Times New Roman"/>
              </a:rPr>
              <a:t>Objectifs poursuivi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4" name="" descr="">
            <a:hlinkClick r:id="rId5"/>
          </p:cNvPr>
          <p:cNvPicPr/>
          <p:nvPr/>
        </p:nvPicPr>
        <p:blipFill>
          <a:blip r:embed="rId6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fr-CH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Pou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Vivre une démarche scientifiq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l'Autonom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51460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990720" y="342900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990720" y="47242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9" name="" descr="">
            <a:hlinkClick r:id="rId8"/>
          </p:cNvPr>
          <p:cNvPicPr/>
          <p:nvPr/>
        </p:nvPicPr>
        <p:blipFill>
          <a:blip r:embed="rId9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6633"/>
                </a:solidFill>
                <a:latin typeface="Times New Roman"/>
              </a:rPr>
              <a:t>La démarche scientifique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28195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Exemples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990720" y="6248520"/>
            <a:ext cx="914400" cy="2613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quoi</a:t>
            </a:r>
            <a:r>
              <a:rPr b="0" lang="fr-FR" sz="11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6705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0859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9014" y="3794"/>
                </a:lnTo>
                <a:lnTo>
                  <a:pt x="9014" y="17806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708660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46748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78487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1905120" y="6248520"/>
            <a:ext cx="914400" cy="261360"/>
          </a:xfrm>
          <a:prstGeom prst="rect">
            <a:avLst/>
          </a:pr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02000"/>
                </a:solidFill>
                <a:latin typeface="Times New Roman"/>
              </a:rPr>
              <a:t>Pour Quoi ?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a7f32"/>
                </a:solidFill>
                <a:uFillTx/>
                <a:latin typeface="Times New Roman"/>
                <a:hlinkClick r:id="rId5"/>
              </a:rPr>
              <a:t>Comprendre le problè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a7f32"/>
                </a:solidFill>
                <a:uFillTx/>
                <a:latin typeface="Times New Roman"/>
                <a:hlinkClick r:id="rId6"/>
              </a:rPr>
              <a:t>Concevoir un pla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a7f32"/>
                </a:solidFill>
                <a:uFillTx/>
                <a:latin typeface="Times New Roman"/>
                <a:hlinkClick r:id="rId7"/>
              </a:rPr>
              <a:t>Mettre le plan à exécu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a7f32"/>
                </a:solidFill>
                <a:uFillTx/>
                <a:latin typeface="Times New Roman"/>
                <a:hlinkClick r:id="rId8"/>
              </a:rPr>
              <a:t>Examiner la solution obten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914400" y="304920"/>
            <a:ext cx="1981080" cy="1257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8305920" y="62611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7493"/>
                </a:moveTo>
                <a:lnTo>
                  <a:pt x="10859" y="7493"/>
                </a:lnTo>
                <a:lnTo>
                  <a:pt x="10859" y="12828"/>
                </a:lnTo>
                <a:cubicBezTo>
                  <a:pt x="10859" y="13751"/>
                  <a:pt x="11660" y="14482"/>
                  <a:pt x="12696" y="14482"/>
                </a:cubicBezTo>
                <a:lnTo>
                  <a:pt x="14358" y="14482"/>
                </a:lnTo>
                <a:cubicBezTo>
                  <a:pt x="15394" y="14482"/>
                  <a:pt x="16195" y="13751"/>
                  <a:pt x="16195" y="12828"/>
                </a:cubicBezTo>
                <a:lnTo>
                  <a:pt x="16195" y="7493"/>
                </a:lnTo>
                <a:lnTo>
                  <a:pt x="14358" y="7493"/>
                </a:lnTo>
                <a:lnTo>
                  <a:pt x="17866" y="3985"/>
                </a:lnTo>
                <a:lnTo>
                  <a:pt x="21539" y="7493"/>
                </a:lnTo>
                <a:lnTo>
                  <a:pt x="19702" y="7493"/>
                </a:lnTo>
                <a:lnTo>
                  <a:pt x="19702" y="12828"/>
                </a:lnTo>
                <a:cubicBezTo>
                  <a:pt x="19702" y="15596"/>
                  <a:pt x="17126" y="18155"/>
                  <a:pt x="14358" y="18155"/>
                </a:cubicBezTo>
                <a:lnTo>
                  <a:pt x="12696" y="18155"/>
                </a:lnTo>
                <a:cubicBezTo>
                  <a:pt x="9928" y="18155"/>
                  <a:pt x="7352" y="15596"/>
                  <a:pt x="7352" y="12828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0"/>
          </p:cNvPr>
          <p:cNvPicPr/>
          <p:nvPr/>
        </p:nvPicPr>
        <p:blipFill>
          <a:blip r:embed="rId11"/>
          <a:srcRect l="0" t="0" r="0" b="26582"/>
          <a:stretch/>
        </p:blipFill>
        <p:spPr>
          <a:xfrm>
            <a:off x="4495680" y="5950080"/>
            <a:ext cx="1219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07:56:34Z</dcterms:created>
  <dc:creator>Pierre Frachebourg</dc:creator>
  <dc:description/>
  <dc:language>en-US</dc:language>
  <cp:lastModifiedBy>Pierre Frachebourg</cp:lastModifiedBy>
  <dcterms:modified xsi:type="dcterms:W3CDTF">2012-07-21T11:53:54Z</dcterms:modified>
  <cp:revision>232</cp:revision>
  <dc:subject/>
  <dc:title>ICT-St-Maurice-12-11-01</dc:title>
</cp:coreProperties>
</file>