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ED2-88CE-461A-9E95-E747FC35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6D9-480E-4B63-8241-62B62759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803-17ED-4310-848B-7AA28C3E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30B-3DB6-44D4-9621-F66AC4E2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5D3-DDA9-4FA6-90C1-63BC7126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AE2-8917-43B7-94F0-4B0C74B4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F63-7C1B-44E7-B18D-FF848CF3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2E3-4EF2-417C-9B46-C77EDE6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950-9A96-41F8-B940-86336804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676-A376-45DF-9616-400B5A6A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37C-3D30-48FD-8258-4EF59827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1F5-4BDF-4CDB-8020-EF9E298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0090-5158-4381-A361-6F0126EC2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33640" y="1835280"/>
            <a:ext cx="4590720" cy="4165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57360" y="684360"/>
            <a:ext cx="194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Que vois-t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57360" y="684360"/>
            <a:ext cx="1943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Que vois-t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337600">
            <a:off x="1125000" y="1692000"/>
            <a:ext cx="1756080" cy="1085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37000" y="1547640"/>
            <a:ext cx="1362240" cy="1727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68280" y="3492360"/>
            <a:ext cx="130824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076640" y="3902040"/>
            <a:ext cx="1727280" cy="133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55880" y="5580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imes New Roman"/>
              </a:rPr>
              <a:t>Avec Cabr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484280" y="6054840"/>
            <a:ext cx="38894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20:25:42Z</dcterms:created>
  <dc:creator>Pierre Frachebourg</dc:creator>
  <dc:description/>
  <dc:language>en-US</dc:language>
  <cp:lastModifiedBy>Pierre Frachebourg</cp:lastModifiedBy>
  <dcterms:modified xsi:type="dcterms:W3CDTF">2005-11-24T19:11:43Z</dcterms:modified>
  <cp:revision>25</cp:revision>
  <dc:subject/>
  <dc:title>Présentation PowerPoint</dc:title>
</cp:coreProperties>
</file>