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EB1-1E0B-4A35-8BDC-E24CEFC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AF1-2903-4330-882E-8336FB93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296-6EA6-40FE-9D37-1F6A68F8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154-DA74-48E5-979F-5E4B39DF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C8-D12F-4DEC-802D-6317630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6C6-63AB-4413-BF02-B9DE3C4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B6-9448-4851-90E5-F3498E22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E12-C664-4835-9E4F-00A30738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B59-1964-40BB-B4A9-F7C4FC1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C18-B772-40F4-81F8-E62EDB4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D34-3F18-4706-8C7A-A7CF774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14C-37EB-4356-BE8F-AD2F9AB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E83B-3A42-4332-93D5-B15F27C1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7326" b="54595"/>
          <a:stretch/>
        </p:blipFill>
        <p:spPr>
          <a:xfrm>
            <a:off x="3505320" y="2209680"/>
            <a:ext cx="2987640" cy="311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5480" y="411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ouge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1" lang="en-US" sz="3200" spc="-1" strike="noStrike">
                <a:solidFill>
                  <a:srgbClr val="00cc00"/>
                </a:solidFill>
                <a:latin typeface="Arial Rounded MT Bold"/>
              </a:rPr>
              <a:t>vert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bleu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= 18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2280" y="2057400"/>
            <a:ext cx="37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ouge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1" lang="en-US" sz="3200" spc="-1" strike="noStrike">
                <a:solidFill>
                  <a:srgbClr val="00cc00"/>
                </a:solidFill>
                <a:latin typeface="Arial Rounded MT Bold"/>
              </a:rPr>
              <a:t>vert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=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7432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ire du carré gris est égale à c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7432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aire du carré gris est égale à c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carrés gris ont une aire égale à a² et à b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7400" y="1523880"/>
            <a:ext cx="63244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 Rounded MT Bold"/>
              </a:rPr>
              <a:t>a²    +    b²    =     c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côtés de l’angle droit                        hypotén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4343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114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 est la nature du quadrilatère ble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114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 est la mesure de l’angle ble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09680" y="19810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rouge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1" lang="en-US" sz="3200" spc="-1" strike="noStrike">
                <a:solidFill>
                  <a:srgbClr val="00cc00"/>
                </a:solidFill>
                <a:latin typeface="Arial Rounded MT Bold"/>
              </a:rPr>
              <a:t>vert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=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467480" y="57913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endshow"/>
          </p:cNvPr>
          <p:cNvSpPr/>
          <p:nvPr/>
        </p:nvSpPr>
        <p:spPr>
          <a:xfrm>
            <a:off x="7467480" y="61722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609480"/>
            <a:ext cx="487692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Théorème de</a:t>
            </a:r>
            <a:r>
              <a:rPr b="0" lang="en-US" sz="28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Pythag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3:07:51Z</dcterms:created>
  <dc:creator>RICHTER Jean-Marc</dc:creator>
  <dc:description/>
  <dc:language>en-US</dc:language>
  <cp:lastModifiedBy>RICHTER Jean-Marc</cp:lastModifiedBy>
  <dcterms:modified xsi:type="dcterms:W3CDTF">2000-11-21T20:07:06Z</dcterms:modified>
  <cp:revision>51</cp:revision>
  <dc:subject/>
  <dc:title>Présentation PowerPoint</dc:title>
</cp:coreProperties>
</file>