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273-5F1C-4BBA-B718-83515970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AA6-2ADF-4D9F-8209-20428106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C11-7A6B-41B5-B9C4-C0EF2A4D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417-ADB4-4803-999E-F622A56F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0AB-4E16-456B-B3CB-6D870C4B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AA1-16B3-44AC-86C4-FA3D1C9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4DB-1477-4287-91C5-83782440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FCE-9B53-4CFA-8F5B-C5B92D26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568-EFCD-43FE-8FE4-56978DFB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4F5-5667-4DE2-9C58-26D2039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CF0-51A4-46BC-809D-14B6877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56C-0B44-4773-981F-86F380A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3D07-0D27-4E19-8B71-CC811897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Figures%20Cabri/cubeetatomiumcedop/atomium1.fi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Figures%20Cabri/cubeetatomiumcedop/cubetournefacecouleur.fi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textes%20explicatifs/cubepointe.ppt" TargetMode="External"/><Relationship Id="rId2" Type="http://schemas.openxmlformats.org/officeDocument/2006/relationships/image" Target="../media/image25.png"/><Relationship Id="rId3" Type="http://schemas.openxmlformats.org/officeDocument/2006/relationships/hyperlink" Target="file:///introcedop.ppt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Figures%20Cabri/cubeetatomiumcedop/cubeavecconstruc8.fi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f1e4"/>
                </a:solidFill>
                <a:latin typeface="Times New Roman"/>
              </a:rPr>
              <a:t>ATOMIUM ET CU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tomImage016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90960" cy="3537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50480" y="597996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to A.Talbi et Ch.Zah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ubeImage4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3892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4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720" y="419112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 cube se trouvait près du Palais des Congrè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ubemage111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8588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cubeImage117" descr=""/>
          <p:cNvPicPr/>
          <p:nvPr/>
        </p:nvPicPr>
        <p:blipFill>
          <a:blip r:embed="rId2"/>
          <a:stretch/>
        </p:blipFill>
        <p:spPr>
          <a:xfrm>
            <a:off x="533520" y="585720"/>
            <a:ext cx="4257720" cy="284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ubeImage2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457200" y="-112680"/>
            <a:ext cx="10744200" cy="71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6720" y="4114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e Jacques Lala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ubeImage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3475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979560"/>
            <a:ext cx="7315200" cy="4898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1800" y="304920"/>
            <a:ext cx="74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quer sur l’image cabri pour obtenir la figure et l’ani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7320" y="605628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gure Cabri atomium1.f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7600" y="380880"/>
            <a:ext cx="35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i une vue d’un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 on a colorié les 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00200"/>
            <a:ext cx="7467840" cy="4130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31840" y="56386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sur le cube pour obtenir la figure Cabri et l’ani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8480" y="380880"/>
            <a:ext cx="56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i quelques vues de la rotation d’un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 on a colorié les 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1465200"/>
            <a:ext cx="2019240" cy="1963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29000" y="1460520"/>
            <a:ext cx="1871640" cy="196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5880" y="1447920"/>
            <a:ext cx="1990800" cy="21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1828800" cy="1930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048120" y="4114800"/>
            <a:ext cx="1990440" cy="1893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95880" y="4038480"/>
            <a:ext cx="1774800" cy="192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440" y="4724280"/>
            <a:ext cx="34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be situé à un carrefour à Grimber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rimber1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3276720" cy="3243240"/>
          </a:xfrm>
          <a:prstGeom prst="rect">
            <a:avLst/>
          </a:prstGeom>
          <a:ln w="0">
            <a:noFill/>
          </a:ln>
        </p:spPr>
      </p:pic>
      <p:pic>
        <p:nvPicPr>
          <p:cNvPr id="98" name="grimber2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613320" cy="31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2520" y="68580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r obtenir les détails de la construction réalisée avec Cabr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quer sur l’image de l’atom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943280"/>
            <a:ext cx="1722600" cy="148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6840" y="365760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r retourner au menu, cliquer sur l’Hôtel de V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4419720"/>
            <a:ext cx="127332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99880"/>
            <a:ext cx="8458200" cy="572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83120"/>
            <a:ext cx="9144000" cy="44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6320" rIns="436320" tIns="218160" bIns="218160" anchor="ctr">
            <a:spAutoFit/>
          </a:bodyPr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« Atomium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Représentation du  cristal élémentaire de fer agrandi 150 milliards de fois. L’atomium pèse 2400 tonnes et mesure 102 mètres de haut. Les neuf sphères ont un diamètre de 18 mèt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Ingénieur Waterkeyn pour l'exposition universelle de 195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Architectes: Polak. Boulevard du Centen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tomImage59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72040" cy="49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tommage2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40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18440" y="624852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to D.Ménédè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ristalIimage42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3898800" cy="492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256360"/>
            <a:ext cx="830556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6320" rIns="436320" tIns="218160" bIns="218160" anchor="ctr">
            <a:spAutoFit/>
          </a:bodyPr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« Cristal de nei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aillé par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H.Lég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en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1980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en cristal du Val-Saint-Lamb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ffcc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ubemage3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471920" cy="541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802440"/>
            <a:ext cx="480060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6320" rIns="436320" tIns="218160" bIns="218160" anchor="ctr">
            <a:spAutoFit/>
          </a:bodyPr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« Légend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ccffcc"/>
                </a:solidFill>
                <a:latin typeface="Times New Roman"/>
              </a:rPr>
              <a:t>Grand cube en acier corten (rouille uniquement en surface) posé sur une de ses pointes au centre du 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boulevard Jacqmain</a:t>
            </a:r>
            <a:r>
              <a:rPr b="0" lang="fr-FR" sz="2400" spc="-1" strike="noStrike">
                <a:solidFill>
                  <a:srgbClr val="cc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0" lang="fr-FR" sz="2400" spc="-1" strike="noStrike">
                <a:solidFill>
                  <a:srgbClr val="ccffcc"/>
                </a:solidFill>
                <a:latin typeface="Times New Roman"/>
              </a:rPr>
              <a:t>Elle fut réalisée en 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1997 </a:t>
            </a:r>
            <a:r>
              <a:rPr b="0" lang="fr-FR" sz="2400" spc="-1" strike="noStrike">
                <a:solidFill>
                  <a:srgbClr val="ccffcc"/>
                </a:solidFill>
                <a:latin typeface="Times New Roman"/>
              </a:rPr>
              <a:t>par les sculpteurs 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Guy Rombouts et Monika Droste </a:t>
            </a:r>
            <a:r>
              <a:rPr b="0" lang="fr-FR" sz="2400" spc="-1" strike="noStrike">
                <a:solidFill>
                  <a:srgbClr val="ccffcc"/>
                </a:solidFill>
                <a:latin typeface="Times New Roman"/>
              </a:rPr>
              <a:t>et s'intègre dans les jardins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 de J.Wirtz  </a:t>
            </a:r>
            <a:r>
              <a:rPr b="0" lang="fr-FR" sz="2400" spc="-1" strike="noStrike">
                <a:solidFill>
                  <a:srgbClr val="ccffcc"/>
                </a:solidFill>
                <a:latin typeface="Times New Roman"/>
              </a:rPr>
              <a:t>dessinés en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 19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1" lang="fr-FR" sz="1200" spc="-1" strike="noStrike">
                <a:solidFill>
                  <a:srgbClr val="ccffcc"/>
                </a:solidFill>
                <a:latin typeface="Times New Roman"/>
              </a:rPr>
              <a:t>Photo I.Hlim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ubemage45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105440" cy="58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146240"/>
            <a:ext cx="71629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ALISATIONS AVEC CAB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lasse 4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présentation de l’atomium et d’un cube sur pointe en perspective obl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paramètres de la perspective sont modifiables, et le cube ainsi que l’atomium peuvent effectuer une rotation autour de l’axe ver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tions mathématiques utilisées: propriétés du cube, perspective oblique et nombres irratio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65833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Athénée Royal Gatti de Gamond - ULB U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1800" y="304920"/>
            <a:ext cx="74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quer sur l’image cabri pour obtenir la figure et l’ani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143000"/>
            <a:ext cx="7551720" cy="504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01440" y="62085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gure Cabri cubeavecconstuc8.f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09:13:52Z</dcterms:created>
  <dc:creator>Randour Ch</dc:creator>
  <dc:description/>
  <dc:language>en-US</dc:language>
  <cp:lastModifiedBy>Yvon MOLINGHEN</cp:lastModifiedBy>
  <dcterms:modified xsi:type="dcterms:W3CDTF">2002-07-08T09:48:13Z</dcterms:modified>
  <cp:revision>59</cp:revision>
  <dc:subject/>
  <dc:title>No Slide Title</dc:title>
</cp:coreProperties>
</file>