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8.wmf" ContentType="image/x-wmf"/>
  <Override PartName="/ppt/media/image24.jpeg" ContentType="image/jpeg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BF0-77D2-4FDB-9AE5-58B7C1BE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0C0-B7F9-4B81-BF39-0DC0F95E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4D6-4460-4F5F-AC41-72B5AA9E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5B2-D9BB-4D5E-A253-6A060E27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B95-CD24-4D37-B6E5-3726A93D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0E9-4A52-4467-8F9A-B3B07E87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7BF-4D47-40B5-A018-9CEB7255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15B-D610-4D90-9709-1487A908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CE3-B98F-477D-8755-40B0669F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F9F-717B-4708-AD6B-16121252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29D-550A-4066-9509-B30EE266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CA1-8590-4042-B978-6E2E5EF4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08EB-82F7-4B20-8042-265F247C9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7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60280"/>
            <a:ext cx="782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f1e4"/>
                </a:solidFill>
                <a:latin typeface="Times New Roman"/>
              </a:rPr>
              <a:t>Cours CRM – Leysin</a:t>
            </a:r>
            <a:br>
              <a:rPr sz="4000"/>
            </a:br>
            <a:r>
              <a:rPr b="1" lang="en-GB" sz="4000" spc="-1" strike="noStrike">
                <a:solidFill>
                  <a:srgbClr val="fef1e4"/>
                </a:solidFill>
                <a:latin typeface="Times New Roman"/>
              </a:rPr>
              <a:t>Septembre 20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2484360"/>
            <a:ext cx="5790960" cy="3537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50480" y="603396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to A.Talbi et Ch.Zah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5040" y="30492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b – Rotation dans l’espace – l’affinité aut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CabriGeometreIIPAX1"/>
          <p:cNvGraphicFramePr/>
          <p:nvPr/>
        </p:nvGraphicFramePr>
        <p:xfrm>
          <a:off x="1238400" y="1214280"/>
          <a:ext cx="6667200" cy="442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0" y="1214280"/>
                    <a:ext cx="666720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2817"/>
          <a:stretch/>
        </p:blipFill>
        <p:spPr>
          <a:xfrm>
            <a:off x="1469880" y="947880"/>
            <a:ext cx="6204240" cy="4822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2880" y="30492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c – Rotation dans l’espace – construction d’une macro “affinit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0" b="2846"/>
          <a:stretch/>
        </p:blipFill>
        <p:spPr>
          <a:xfrm>
            <a:off x="1468440" y="946080"/>
            <a:ext cx="6207120" cy="482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10440" y="30492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– Une ellipse avec trois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3260"/>
          <a:stretch/>
        </p:blipFill>
        <p:spPr>
          <a:xfrm>
            <a:off x="1461960" y="958680"/>
            <a:ext cx="6207120" cy="4803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3960" y="304920"/>
            <a:ext cx="80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a – Une histoire de rotation : construction d’un curseur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0" b="2396"/>
          <a:stretch/>
        </p:blipFill>
        <p:spPr>
          <a:xfrm>
            <a:off x="1463760" y="942840"/>
            <a:ext cx="6216480" cy="4853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0800" y="30492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b – Un tétraèdre en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3031"/>
          <a:stretch/>
        </p:blipFill>
        <p:spPr>
          <a:xfrm>
            <a:off x="1461960" y="941400"/>
            <a:ext cx="6220080" cy="4824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3680" y="3049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a – Un cube sur une poi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7000" y="4191120"/>
            <a:ext cx="38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 cube se trouve près du Palais des Congrè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à Brux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485880" cy="4495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585720"/>
            <a:ext cx="4257720" cy="2843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800840" y="333360"/>
            <a:ext cx="1308240" cy="879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0" r="0" b="2817"/>
          <a:stretch/>
        </p:blipFill>
        <p:spPr>
          <a:xfrm>
            <a:off x="1474920" y="950760"/>
            <a:ext cx="6194160" cy="4816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1520" y="3049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b – Final : l’Ato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5120" y="3049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c – Avec Cabri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0" r="6244" b="-9598"/>
          <a:stretch/>
        </p:blipFill>
        <p:spPr>
          <a:xfrm>
            <a:off x="3697200" y="333360"/>
            <a:ext cx="5411880" cy="431640"/>
          </a:xfrm>
          <a:prstGeom prst="rect">
            <a:avLst/>
          </a:prstGeom>
          <a:ln w="0">
            <a:noFill/>
          </a:ln>
        </p:spPr>
      </p:pic>
      <p:pic>
        <p:nvPicPr>
          <p:cNvPr id="130" name="Cabri3ActiveDoc1" descr=""/>
          <p:cNvPicPr/>
          <p:nvPr/>
        </p:nvPicPr>
        <p:blipFill>
          <a:blip r:embed="rId3"/>
          <a:stretch/>
        </p:blipFill>
        <p:spPr>
          <a:xfrm>
            <a:off x="2901960" y="1038240"/>
            <a:ext cx="3340080" cy="478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40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98440" y="981000"/>
            <a:ext cx="8547120" cy="129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6244" b="-9598"/>
          <a:stretch/>
        </p:blipFill>
        <p:spPr>
          <a:xfrm>
            <a:off x="1249200" y="2260440"/>
            <a:ext cx="7283520" cy="581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0000" y="549360"/>
            <a:ext cx="4680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900" spc="-1" strike="noStrike">
                <a:solidFill>
                  <a:srgbClr val="ffffff"/>
                </a:solidFill>
                <a:latin typeface="Times New Roman"/>
              </a:rPr>
              <a:t>F  I  N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191200" y="2575080"/>
            <a:ext cx="2476440" cy="3590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28680" y="4143240"/>
            <a:ext cx="2035080" cy="1949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7667640" y="1125360"/>
            <a:ext cx="961920" cy="96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4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400"/>
                            </p:stCondLst>
                            <p:childTnLst>
                              <p:par>
                                <p:cTn id="1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9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2040" y="171360"/>
            <a:ext cx="8255160" cy="6194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252360" y="-74520"/>
            <a:ext cx="914400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6320" rIns="436320" tIns="218160" bIns="218160" anchor="ctr">
            <a:spAutoFit/>
          </a:bodyPr>
          <a:p>
            <a:pPr>
              <a:tabLst>
                <a:tab algn="l" pos="0"/>
                <a:tab algn="l" pos="4363920"/>
                <a:tab algn="l" pos="8728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« Atomium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eprésentation du  cristal élémentaire de fer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grandi 150 milliards de fois.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’atomium pèse 2400 tonnes et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mesure 102 mètres de haut.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es neuf sphères ont un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mètre de 18 mèt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363920"/>
                <a:tab algn="l" pos="8728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génieur Waterkeyn pour l'exposition universelle de 195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363920"/>
                <a:tab algn="l" pos="8728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rchitectes: Polak. Boulevard du Centen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72040" cy="4992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1146240"/>
            <a:ext cx="71629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EALISATIONS AVEC CAB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présentation de l’atomium et d’un cube sur pointe en perspective obl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paramètres de la perspective sont modifiables, et le cube ainsi que l’atomium peuvent effectuer une rotation autour de l’axe ver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tions mathématiques utilisées: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priétés du cube, perspective cavali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1880" y="30492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a – Une histoire de car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3038"/>
          <a:stretch/>
        </p:blipFill>
        <p:spPr>
          <a:xfrm>
            <a:off x="1468440" y="946080"/>
            <a:ext cx="6207120" cy="481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5400" y="304920"/>
            <a:ext cx="77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b – Une histoire de carré – construction d’une macro “carr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2879"/>
          <a:stretch/>
        </p:blipFill>
        <p:spPr>
          <a:xfrm>
            <a:off x="1476360" y="946080"/>
            <a:ext cx="6207120" cy="4822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591"/>
          <a:stretch/>
        </p:blipFill>
        <p:spPr>
          <a:xfrm>
            <a:off x="1476360" y="947880"/>
            <a:ext cx="6208560" cy="4830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2960" y="30492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a – Une histoire de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2817"/>
          <a:stretch/>
        </p:blipFill>
        <p:spPr>
          <a:xfrm>
            <a:off x="1476360" y="947880"/>
            <a:ext cx="6208560" cy="4819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6840" y="304920"/>
            <a:ext cx="76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b – Une histoire de cube – construction d’une macro “cub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2979"/>
          <a:stretch/>
        </p:blipFill>
        <p:spPr>
          <a:xfrm>
            <a:off x="1479600" y="939960"/>
            <a:ext cx="6186600" cy="4803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9360" y="304920"/>
            <a:ext cx="71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c – Une histoire de cube – construction d’un curseu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17095E-006 C -0.08056 -0.07333 0.05642 -0.52187 0.16944 -0.62712 C 0.28247 -0.73237 0.59705 -0.70507 0.6776 -0.63174 C 0.75816 -0.55841 0.76493 -0.29216 0.65295 -0.18668 C 0.54097 -0.0812 0.08056 0.07332 2.77778E-007 -7.17095E-006 Z">
                                      <p:cBhvr>
                                        <p:cTn id="5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2865"/>
          <a:stretch/>
        </p:blipFill>
        <p:spPr>
          <a:xfrm>
            <a:off x="1481040" y="947880"/>
            <a:ext cx="6181920" cy="4803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7560" y="30492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a – Rotation dans l’espace – l’affin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09:13:52Z</dcterms:created>
  <dc:creator>Randour Ch</dc:creator>
  <dc:description/>
  <dc:language>en-US</dc:language>
  <cp:lastModifiedBy>Pierre Frachebourg</cp:lastModifiedBy>
  <dcterms:modified xsi:type="dcterms:W3CDTF">2012-07-21T12:04:29Z</dcterms:modified>
  <cp:revision>187</cp:revision>
  <dc:subject/>
  <dc:title>No Slide Title</dc:title>
</cp:coreProperties>
</file>