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8.wmf" ContentType="image/x-wmf"/>
  <Override PartName="/ppt/media/image24.jpeg" ContentType="image/jpeg"/>
  <Override PartName="/ppt/media/image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7B3-F794-4E3F-941C-F82DD0DD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FB5-B9CE-421F-91DF-6F4452DC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71E-3EC0-4C30-8D5F-C7DF7F3B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F4A-E7E4-4103-B675-21A228FB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035-FC72-46FE-B01C-E13DB343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7C3-5241-4E21-A0C1-312C7650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840-BE74-40E9-B8AB-CEA19AAE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66F-6C29-4307-86D4-A7895BDC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9FA-EA1E-4609-80E0-B1C4DA7A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DA0-D0B9-4DE1-8483-03F713BD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2F7-B159-4284-836C-03471C32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3EF-51E2-49A0-9E98-8813270E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CABA-369D-4580-9F26-DBD662F18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7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60280"/>
            <a:ext cx="7821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f1e4"/>
                </a:solidFill>
                <a:latin typeface="Times New Roman"/>
              </a:rPr>
              <a:t>HEP Forum – Collège des Creusets</a:t>
            </a:r>
            <a:br>
              <a:rPr sz="4000"/>
            </a:br>
            <a:r>
              <a:rPr b="1" lang="en-GB" sz="4000" spc="-1" strike="noStrike">
                <a:solidFill>
                  <a:srgbClr val="fef1e4"/>
                </a:solidFill>
                <a:latin typeface="Times New Roman"/>
              </a:rPr>
              <a:t>Mathématiques et ICT</a:t>
            </a:r>
            <a:br>
              <a:rPr sz="4000"/>
            </a:br>
            <a:r>
              <a:rPr b="1" lang="en-GB" sz="4000" spc="-1" strike="noStrike">
                <a:solidFill>
                  <a:srgbClr val="fef1e4"/>
                </a:solidFill>
                <a:latin typeface="Times New Roman"/>
              </a:rPr>
              <a:t>“Raison ou Pass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2484360"/>
            <a:ext cx="5790960" cy="3537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50480" y="603396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to A.Talbi et Ch.Zah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05040" y="30492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b – Rotation dans l’espace – l’affinité aut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CabriGeometreIIPAX1"/>
          <p:cNvGraphicFramePr/>
          <p:nvPr/>
        </p:nvGraphicFramePr>
        <p:xfrm>
          <a:off x="1238400" y="1214280"/>
          <a:ext cx="6667200" cy="442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0" y="1214280"/>
                    <a:ext cx="6667200" cy="44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2817"/>
          <a:stretch/>
        </p:blipFill>
        <p:spPr>
          <a:xfrm>
            <a:off x="1469880" y="947880"/>
            <a:ext cx="6204240" cy="4822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2880" y="304920"/>
            <a:ext cx="81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c – Rotation dans l’espace – construction d’une macro “affinité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0" b="2846"/>
          <a:stretch/>
        </p:blipFill>
        <p:spPr>
          <a:xfrm>
            <a:off x="1468440" y="946080"/>
            <a:ext cx="6207120" cy="482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10440" y="30492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– Une ellipse avec trois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3260"/>
          <a:stretch/>
        </p:blipFill>
        <p:spPr>
          <a:xfrm>
            <a:off x="1461960" y="958680"/>
            <a:ext cx="6207120" cy="4803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3960" y="304920"/>
            <a:ext cx="80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a – Une histoire de rotation : construction d’un curseur 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0" b="2396"/>
          <a:stretch/>
        </p:blipFill>
        <p:spPr>
          <a:xfrm>
            <a:off x="1463760" y="942840"/>
            <a:ext cx="6216480" cy="4853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10800" y="30492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b – Un tétraèdre en 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3031"/>
          <a:stretch/>
        </p:blipFill>
        <p:spPr>
          <a:xfrm>
            <a:off x="1461960" y="941400"/>
            <a:ext cx="6220080" cy="4824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3680" y="30492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a – Un cube sur une poi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7000" y="4191120"/>
            <a:ext cx="385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e cube se trouve près du Palais des Congrè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à Brux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485880" cy="4495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585720"/>
            <a:ext cx="4257720" cy="2843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800840" y="333360"/>
            <a:ext cx="1308240" cy="879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0" r="0" b="2817"/>
          <a:stretch/>
        </p:blipFill>
        <p:spPr>
          <a:xfrm>
            <a:off x="1474920" y="950760"/>
            <a:ext cx="6194160" cy="4816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11520" y="304920"/>
            <a:ext cx="30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b – Final : l’Ato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5120" y="3049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c – Avec Cabri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0" r="6244" b="-9598"/>
          <a:stretch/>
        </p:blipFill>
        <p:spPr>
          <a:xfrm>
            <a:off x="3697200" y="333360"/>
            <a:ext cx="5411880" cy="431640"/>
          </a:xfrm>
          <a:prstGeom prst="rect">
            <a:avLst/>
          </a:prstGeom>
          <a:ln w="0">
            <a:noFill/>
          </a:ln>
        </p:spPr>
      </p:pic>
      <p:pic>
        <p:nvPicPr>
          <p:cNvPr id="130" name="Cabri3ActiveDoc1" descr=""/>
          <p:cNvPicPr/>
          <p:nvPr/>
        </p:nvPicPr>
        <p:blipFill>
          <a:blip r:embed="rId3"/>
          <a:stretch/>
        </p:blipFill>
        <p:spPr>
          <a:xfrm>
            <a:off x="2901960" y="1038240"/>
            <a:ext cx="3340080" cy="478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540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98440" y="981000"/>
            <a:ext cx="8547120" cy="129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0" r="6244" b="-9598"/>
          <a:stretch/>
        </p:blipFill>
        <p:spPr>
          <a:xfrm>
            <a:off x="1249200" y="2260440"/>
            <a:ext cx="7283520" cy="581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40000" y="549360"/>
            <a:ext cx="46800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900" spc="-1" strike="noStrike">
                <a:solidFill>
                  <a:srgbClr val="ffffff"/>
                </a:solidFill>
                <a:latin typeface="Times New Roman"/>
              </a:rPr>
              <a:t>F  I  N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191200" y="2575080"/>
            <a:ext cx="2476440" cy="3590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28680" y="4143240"/>
            <a:ext cx="2035080" cy="1949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7667640" y="1125360"/>
            <a:ext cx="961920" cy="96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4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4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400"/>
                            </p:stCondLst>
                            <p:childTnLst>
                              <p:par>
                                <p:cTn id="1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9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9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900"/>
                            </p:stCondLst>
                            <p:childTnLst>
                              <p:par>
                                <p:cTn id="1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2040" y="171360"/>
            <a:ext cx="8255160" cy="6194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252360" y="-74520"/>
            <a:ext cx="914400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6320" rIns="436320" tIns="218160" bIns="218160" anchor="ctr">
            <a:spAutoFit/>
          </a:bodyPr>
          <a:p>
            <a:pPr>
              <a:tabLst>
                <a:tab algn="l" pos="0"/>
                <a:tab algn="l" pos="4363920"/>
                <a:tab algn="l" pos="8728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« Atomium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Représentation du  cristal élémentaire de fer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grandi 150 milliards de fois.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’atomium pèse 2400 tonnes et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mesure 102 mètres de haut.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es neuf sphères ont un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amètre de 18 mèt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63920"/>
                <a:tab algn="l" pos="8728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363920"/>
                <a:tab algn="l" pos="87282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ngénieur Waterkeyn pour l'exposition universelle de 195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363920"/>
                <a:tab algn="l" pos="87282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rchitectes: Polak. Boulevard du Centen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72040" cy="4992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1146240"/>
            <a:ext cx="71629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REALISATIONS AVEC CAB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présentation de l’atomium et d’un cube sur pointe en perspective obl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paramètres de la perspective sont modifiables, et le cube ainsi que l’atomium peuvent effectuer une rotation autour de l’axe ver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tions mathématiques utilisées: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priétés du cube, perspective cavali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1880" y="30492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a – Une histoire de car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3038"/>
          <a:stretch/>
        </p:blipFill>
        <p:spPr>
          <a:xfrm>
            <a:off x="1468440" y="946080"/>
            <a:ext cx="6207120" cy="4815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05400" y="304920"/>
            <a:ext cx="77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b – Une histoire de carré – construction d’une macro “carré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2879"/>
          <a:stretch/>
        </p:blipFill>
        <p:spPr>
          <a:xfrm>
            <a:off x="1476360" y="946080"/>
            <a:ext cx="6207120" cy="4822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2591"/>
          <a:stretch/>
        </p:blipFill>
        <p:spPr>
          <a:xfrm>
            <a:off x="1476360" y="947880"/>
            <a:ext cx="6208560" cy="4830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2960" y="30492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a – Une histoire de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2817"/>
          <a:stretch/>
        </p:blipFill>
        <p:spPr>
          <a:xfrm>
            <a:off x="1476360" y="947880"/>
            <a:ext cx="6208560" cy="4819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6840" y="304920"/>
            <a:ext cx="76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b – Une histoire de cube – construction d’une macro “cub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2979"/>
          <a:stretch/>
        </p:blipFill>
        <p:spPr>
          <a:xfrm>
            <a:off x="1479600" y="939960"/>
            <a:ext cx="6186600" cy="4803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9360" y="304920"/>
            <a:ext cx="71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c – Une histoire de cube – construction d’un curseur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17095E-006 C -0.08056 -0.07333 0.05642 -0.52187 0.16944 -0.62712 C 0.28247 -0.73237 0.59705 -0.70507 0.6776 -0.63174 C 0.75816 -0.55841 0.76493 -0.29216 0.65295 -0.18668 C 0.54097 -0.0812 0.08056 0.07332 2.77778E-007 -7.17095E-006 Z">
                                      <p:cBhvr>
                                        <p:cTn id="5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2865"/>
          <a:stretch/>
        </p:blipFill>
        <p:spPr>
          <a:xfrm>
            <a:off x="1481040" y="947880"/>
            <a:ext cx="6181920" cy="4803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7560" y="304920"/>
            <a:ext cx="49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a – Rotation dans l’espace – l’affin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2240" y="645336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ef1e4"/>
                </a:solidFill>
                <a:latin typeface="Book Antiqua"/>
              </a:rPr>
              <a:t>Pierre Frachebourg – Collège de l’Abbaye de St-Mau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579744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800840" y="1052640"/>
            <a:ext cx="1308240" cy="87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HENEE ROYAL GATTI DE GAMOND - ULB-UREM</a:t>
            </a: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09:13:52Z</dcterms:created>
  <dc:creator>Randour Ch</dc:creator>
  <dc:description/>
  <dc:language>en-US</dc:language>
  <cp:lastModifiedBy>Pierre Frachebourg</cp:lastModifiedBy>
  <dcterms:modified xsi:type="dcterms:W3CDTF">2008-11-14T19:45:49Z</dcterms:modified>
  <cp:revision>186</cp:revision>
  <dc:subject/>
  <dc:title>No Slide Title</dc:title>
</cp:coreProperties>
</file>