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53B-637A-43DF-8DB3-69938FD6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765-FE25-43D1-947D-CBBCAAA4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181B-A994-45F9-BAF2-7AFD7FF7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237C-C2B3-42E1-A748-53593069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E41-A730-42F4-82AF-F092A104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1AD-442A-4DE7-9A0D-9D55817F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4B9-0EA7-4074-AA24-C0A97D3E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FBD-C219-4B9D-BE52-41DB11CD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113-656C-4545-B860-20EA5616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F03-0EFE-457A-9BFC-E8631FC9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776A-6125-43C1-BCEE-4DE93FB7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0B7-E233-43BC-ADCC-8A005C63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F3DA-3459-495A-8A6D-748FF4640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vier" descr=""/>
          <p:cNvPicPr/>
          <p:nvPr/>
        </p:nvPicPr>
        <p:blipFill>
          <a:blip r:embed="rId1"/>
          <a:stretch/>
        </p:blipFill>
        <p:spPr>
          <a:xfrm>
            <a:off x="568440" y="219240"/>
            <a:ext cx="5832360" cy="4003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4626" t="14888" r="4626" b="6978"/>
          <a:stretch/>
        </p:blipFill>
        <p:spPr>
          <a:xfrm>
            <a:off x="457200" y="4952880"/>
            <a:ext cx="2943360" cy="132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65080" y="441972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 cabri-lev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33920" y="4952880"/>
            <a:ext cx="2743200" cy="167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28600" y="7162920"/>
            <a:ext cx="3143160" cy="115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733920" y="6969240"/>
            <a:ext cx="27432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3T16:31:28Z</dcterms:created>
  <dc:creator>FRACHEBOURG Pierre</dc:creator>
  <dc:description/>
  <dc:language>en-US</dc:language>
  <cp:lastModifiedBy>FRACHEBOURG Pierre</cp:lastModifiedBy>
  <cp:lastPrinted>1999-01-13T16:44:40Z</cp:lastPrinted>
  <dcterms:modified xsi:type="dcterms:W3CDTF">1999-01-13T16:45:00Z</dcterms:modified>
  <cp:revision>1</cp:revision>
  <dc:subject/>
  <dc:title>Aucun titre de diapositive</dc:title>
</cp:coreProperties>
</file>